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CA9-0906-4FED-B337-61949A36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83B-347E-4629-9511-BFA68F21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609-7327-41AC-8CE8-581E65E3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8EB-ADC1-4E8F-89D1-20C08184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D08-5E4F-4A93-8F7D-C49CC13D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909-8810-4565-9C22-87B84E3D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2AD-3C59-4D1A-B460-237BA2AE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675-55AA-4342-92F8-A4C68652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30E-0E02-4DE5-8E9E-394E37EF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FEB-F868-494F-80A0-13BD7AF2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979-0152-4CB5-A3E5-CC5B635C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E31-2D54-4701-92B4-049554B2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7483-8692-414A-B9CB-8FA006A41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atthewasprey.files.wordpress.com/2007/11/shadows_and_fog.jpg&amp;imgrefurl=http://matthewasprey.wordpress.com/2007/11/17/film-notes-revisited-2-shadows-and-fog-1992/&amp;usg=__dp21rH9lGCCyMTpTnoLIY9TRRz0=&amp;h=755&amp;w=493&amp;sz=59&amp;hl=en&amp;start=16&amp;tbnid=uF-CQWupKDN4hM:&amp;tbnh=142&amp;tbnw=93&amp;prev=/images%3Fq%3Dshadow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lh5.google.com/DansMusings/R0-G_khnYvI/AAAAAAAAADI/upA-NWzVYf0/Tall%2520trees%2520combined_thumb%255B10%255D&amp;imgrefurl=http://dansmusings2.blogspot.com/2007_11_01_archive.html&amp;usg=__CDNdxxohEw-kR0Tok4L1ImOCO94=&amp;h=933&amp;w=462&amp;sz=267&amp;hl=en&amp;start=6&amp;tbnid=J-iBQAn9j5khzM:&amp;tbnh=147&amp;tbnw=73&amp;prev=/images%3Fq%3Dtall%2Btrees%26gbv%3D2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57.webshots.com/557/5/69/93/2490569930026058711MCaxTV_ph.jpg&amp;imgrefurl=http://outdoors.webshots.com/photo/2490569930026058711MCaxTV&amp;usg=__9HcPhLS-bSH5DjhB6vBGhNZd_yo=&amp;h=531&amp;w=800&amp;sz=29&amp;hl=en&amp;start=5&amp;tbnid=3UueZQOOgpvDKM:&amp;tbnh=95&amp;tbnw=143&amp;prev=/images%3Fq%3DSun%2Bsettting%26gbv%3D2%26hl%3Den%26safe%3Dactive%26sa%3D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pclipart.com/weather/wind/windy_5.png&amp;imgrefurl=http://www.wpclipart.com/weather/wind/windy_5.png.html&amp;usg=__R95bfWD4m_wwv4jRAAx7ZvADtHs=&amp;h=351&amp;w=404&amp;sz=32&amp;hl=en&amp;start=1&amp;tbnid=7DT4xuExjgt6yM:&amp;tbnh=108&amp;tbnw=124&amp;prev=/images%3Fq%3Dwindy%26gbv%3D2%26hl%3Den%26safe%3Dactive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32.photobucket.com/albums/d6/Romzilla/Beast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eamstime.com/cartoon-toothpaste-toothbrush-thumb2887476.jpg&amp;imgrefurl=http://theengagedconsumer.powered.com/2008/12/19/would-you-join-a-toothpaste-community/&amp;usg=__ZWZ3AFXJeQsw6B9uekZmwpq6JfA=&amp;h=300&amp;w=300&amp;sz=21&amp;hl=en&amp;start=10&amp;tbnid=60rPYaQXth43IM:&amp;tbnh=116&amp;tbnw=116&amp;prev=/images%3Fq%3Dtoothbrush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pool1.com/images/Bathtub.jpg&amp;imgrefurl=http://www.pool1.com/&amp;usg=__7db76yrnWkxn7iZd_l0aWqUYtSo=&amp;h=305&amp;w=490&amp;sz=19&amp;hl=en&amp;start=10&amp;tbnid=zT8H0MZK2l_X-M:&amp;tbnh=81&amp;tbnw=130&amp;prev=/images%3Fq%3Dbathtub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rzupek.files.wordpress.com/2009/02/crystal_ball.jpg&amp;imgrefurl=http://trzupek.wordpress.com/tag/lisa-madigan/&amp;usg=__VXCsyROEavhS2cl27GNG-a7yThY=&amp;h=833&amp;w=656&amp;sz=65&amp;hl=en&amp;start=4&amp;tbnid=9ZJZlS12NOO0kM:&amp;tbnh=144&amp;tbnw=113&amp;prev=/images%3Fq%3Dcrystal%2Bball%26gbv%3D2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able-cottage-potterne.co.uk/images/Self-Catering_Cottage_Potterne.jpg&amp;imgrefurl=http://www.stable-cottage-potterne.co.uk/&amp;usg=__7kqxFIGn5t_QKF9tdV-NPTpZ-mE=&amp;h=590&amp;w=844&amp;sz=27&amp;hl=en&amp;start=2&amp;tbnid=A6OttpGhHBYioM:&amp;tbnh=101&amp;tbnw=145&amp;prev=/images%3Fq%3Dcottage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nderer.com/animals/wild_boar1.jpg&amp;imgrefurl=http://www.onderer.com/animals/wild_boar.html&amp;usg=__yokeDFfccULj2IHgB3GGr58gNws=&amp;h=514&amp;w=751&amp;sz=151&amp;hl=en&amp;start=5&amp;tbnid=qIYUD2PlzGYSCM:&amp;tbnh=97&amp;tbnw=141&amp;prev=/images%3Fq%3Dboar%26gbv%3D2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cturesof.net/_images_300/A_Caveman_Throwing_A_Hunting_Spear_Royalty_Free_Clipart_Picture_090716-208633-121042.jpg&amp;imgrefurl=http://www.picturesof.net/pages/090716-208633-121042.html&amp;usg=__s22k-sncg3dBeTzPgXUlJ3v1QvY=&amp;h=297&amp;w=300&amp;sz=16&amp;hl=en&amp;start=18&amp;tbnid=dZq1_bUsfzkLcM:&amp;tbnh=115&amp;tbnw=116&amp;prev=/images%3Fq%3DHunting%2BSpear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rghuis.co.nz/abiator/pick/lotf/lotfmap.jpg&amp;imgrefurl=http://www.berghuis.co.nz/abiator/pick/lotf/lotfmap.html&amp;usg=__kJYlLSxfCKkc5CYK9fToO6l3hY4=&amp;h=427&amp;w=663&amp;sz=58&amp;hl=en&amp;start=9&amp;tbnid=g69V3GtDNryKjM:&amp;tbnh=89&amp;tbnw=138&amp;prev=/images%3Fq%3DLOTF:%2B%2BMap%26gbv%3D2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illerbrooks.files.wordpress.com/2009/09/piggy-lord-of-the-flies.jpg&amp;imgrefurl=http://millerbrooks.wordpress.com/category/uncategorized/&amp;usg=__h3ZrsK0oqihgXxLqulCohOmC58M=&amp;h=300&amp;w=400&amp;sz=51&amp;hl=en&amp;start=18&amp;tbnid=_CQXsNJ_wMr4IM:&amp;tbnh=93&amp;tbnw=124&amp;prev=/images%3Fq%3DLOTF:%2B%2BPiggy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hadows and Tall Tre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280" y="3429000"/>
            <a:ext cx="209520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6920" y="3276720"/>
            <a:ext cx="1739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 u="sng">
                <a:solidFill>
                  <a:srgbClr val="ff0066"/>
                </a:solidFill>
                <a:uFillTx/>
                <a:latin typeface="Arial"/>
              </a:rPr>
              <a:t>Vocabulary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Find 1 unknown wo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)  Where does Jack want to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ere does Ralph want to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o would YOU go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24200" y="3895560"/>
            <a:ext cx="38815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at do you think Jack means when he say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“Wind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33880" y="838080"/>
            <a:ext cx="43243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oes Jack see the BE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214280"/>
            <a:ext cx="510552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Question #13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o Ralph &amp; Roger also see the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18040" y="228600"/>
            <a:ext cx="49496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1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-  What is the longest you have ever gone without ba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-  What does Ralph want to do regarding his personal appea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108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609480"/>
            <a:ext cx="25909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at is Simon’s prediction for Ral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o you think it will come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5920" y="1295280"/>
            <a:ext cx="2511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On this page, Ralph is remembering life before he was stuck on this island.  List 2 things he mi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st 1 thing you’d miss out of your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04760"/>
            <a:ext cx="4114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ich boy hit the boar with the sp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251000"/>
            <a:ext cx="53816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lay Fight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t BHS, what is the consequence of play fighting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Use a littlun,” said Jack, and everybody laugh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 this really funny?  Explain in 1-2 sentences your thoughts on J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00160"/>
            <a:ext cx="23623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e boys are taking a different route back to the mountain.  Is it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easier or more difficult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then the way they first c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095480"/>
            <a:ext cx="46198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ich boy volunteers to cut through the forest alone, to give Piggy and the littluns the me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522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4:26:11Z</dcterms:created>
  <dc:creator>BPS</dc:creator>
  <dc:description/>
  <dc:language>en-US</dc:language>
  <cp:lastModifiedBy>BPS</cp:lastModifiedBy>
  <dcterms:modified xsi:type="dcterms:W3CDTF">2011-04-27T00:22:30Z</dcterms:modified>
  <cp:revision>17</cp:revision>
  <dc:subject/>
  <dc:title>Chapter 7 Shadows and Tall Trees</dc:title>
</cp:coreProperties>
</file>